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EFE-4EB8-460C-AC3B-4DED54AD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12F-5B0C-48DE-A9FF-066BF86A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3A7-7587-4075-9C54-997E2CEB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53D-6EE0-47AF-A2F5-08379D3E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59D3-D927-44B7-86D1-67A03B57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5C6D-F0EA-498E-985D-246F2A65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DE32-13F7-4BBB-A911-A64919A9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521D-9099-4EDA-9EE7-DF8F8F44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ABA0-035F-4338-BFE2-088B5D1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7D25-2BBA-4E38-9888-CB1F9DFE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29D7-FD5C-4D46-8BF2-3D4BC1D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337-93FD-49E2-B541-72F3B12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F148-C990-4B1E-81B2-D9DF5C44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5A9B-8E1B-46D6-A1C3-45572423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0F65-8255-4B60-A56B-B342078A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5EC5-E20B-4E1E-88EF-A032A6DC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ED27-8E7B-487C-A4E0-520D935F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30D7-81B8-4461-8DD6-87B5C7E9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6286-D3F3-4D69-9D71-6CEED01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D2BA-7DBF-4587-8F83-9E28D447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CB74-01F3-48AE-98C2-B23D412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E644-0D48-49E7-9B22-430DA964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5D8-3F55-4A3E-95EF-4273625C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E96B-E145-4EBC-B209-8806332F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6C01E-58EF-48D2-90C2-FFF24C60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30B89-2206-4E39-84EF-A423BF40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A961-2C02-4842-BBA2-F7D4A6DB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DC42-6F8D-4FB0-BDB9-5453C763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6A90-1267-43A4-B845-02C5A377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AB48-4E76-477B-B9F5-D1EBA205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13E9-76B9-4FB9-A9BF-1479D3B8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D406-3744-4E47-95EF-CAD38DD8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16467-479B-41B5-86E0-588A7113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B49-8D8C-47AE-9C59-4FA140AB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41D5-1AA8-4DC2-B06E-E872761E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36FF-8C05-4842-803C-D819855B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07684-9942-429A-8A5B-A3D66A53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B47B5-7EAB-48D3-A5B4-5E7AA11C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DA9E6-3DCC-4F25-8A9A-BB7BD463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EDAC-5809-4BAA-ABE7-DD8BE69B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4468-8866-41D0-AFF1-5FA1F0F9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2B21D-2A5E-49A8-AEFF-8D161804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7489-DB85-4320-B1F1-E699072A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049FE-3A5A-4CA2-A8B1-169C7CFE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0E6-33F4-4C55-90C5-47A40DA5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4977F-CBB7-46BE-882C-B7A2FFD6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7F8F7-7C3C-4E13-8C73-40766125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5E8F6-8BE6-421B-87C1-7F04C85A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892A-4D9A-4597-80A7-7753152C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782F5-7567-4726-9660-FA60D4EF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A3C8C-B1CE-497C-862F-FF60B2A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6474-54EB-43E0-AB10-D2E9B55C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30943-B573-4983-B01C-C4C1606A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F4BA6-BAB1-46C9-9241-08B07B4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501D-FBBD-48C0-9279-84C80E69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565-F095-4A00-B7D9-15F78604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3C06-8002-4C74-9B1A-E4E06674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4FB-F983-450F-9022-E3B853D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C61-A46A-4922-B94B-758A5A1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DC8-28C3-479D-8F3B-F6A4844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BD6F-F9BD-48A7-8A27-E86AF6B82C1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0D1A-B253-42B7-A407-0F2E88A29A2F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B19D-6A87-4C44-AFEE-1B4B99A9B19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693B-DBC4-442E-9AA1-AC561B2D15FF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387A-CCCE-4FD0-A76E-83E0B80BA51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b13f9a"/>
                </a:solidFill>
                <a:latin typeface="Times New Roman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b13f9a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b13f9a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b13f9a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835280" y="3124080"/>
            <a:ext cx="554508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b13f9a"/>
                </a:solidFill>
                <a:latin typeface="Times New Roman"/>
              </a:rPr>
              <a:t>8. наставна јединица (осм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Вештина комуникације са особама са менталним поремећај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Times New Roman"/>
              </a:rPr>
              <a:t>Комуникација са геријатријском популац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747240" y="599760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b13f9a"/>
                </a:solidFill>
                <a:latin typeface="Times New Roman"/>
              </a:rPr>
              <a:t>Проф. др Драгана Игњатовић Рист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удент може послушати рад срца или дисање код свог колеге, па то применити на пацијенту. Учење психијатријске пропедевтике не тече на исти начин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 тог разлога, може да помогне посматрање интеракције (roll play) пре него што се крене у разговор са пацијенто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нимање интервјуа међу студентима и анализа истог може бити добра вежба у учењу комуникацијских вешти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39476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 осећају се увек сигурно док причају са психијатријским пацијентима- не у интелектуалном већ више у базичном осећају сигур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глед психијатријског пацијента (бескућник, алкохолисан, доведен са улице у Ургентни центар)...нема комуникације... Општа маргинализација психијатријских пацијената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39476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јав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кундарн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енталн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импто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 који болују од соматских боле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рл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рз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кључу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зива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сихијатр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уден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клањај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”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аквог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раћ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вољ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њ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вратној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нформациј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-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ид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нтервј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чествова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д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ехника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спеш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вољ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ољ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ерапијск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гућностим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енталн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ремећај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ш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аргинализаци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сихијатријских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а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ацијенти у маничној фази болести имају лошу пажњу и због тога тешко прате сложене инструкциј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то, комуникација треба да буде јасна, језик једноставан, са подсећањем пацијента да понови оно што је важно како би боље запамти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дсетници о важним детаљима, ако је пацијент на одељењу, такође могу да помогну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споставите везу са пацијент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едставите с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удите љубазн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ако год да је пацијент узбуђен, осетиће ако сте ту стварно за њега и да вам може верова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ити присутан значи да вас пацијент заиста интересује. То и маничном и депресивном пацијенту једнако значи иако они имају различите потреб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ојим поступцима, покажите да је пацијент (маничан или депресиван) важна особа и да има наде- супротно од конфузности, безвредности, безнађа и песимизма у коме се пацијент налази. Ако то побуди жељу пацијента да комуницира, охрабрите га да настав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ставите разумна ограничења за маничног пацијента и јасно дефинишите очекивања од депресивног пацијнета уз обавезно уважавање пацијена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аутентични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,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покажите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емпатију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,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позитивно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охрабривање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и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топлину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ek to provide the basic human needs identified by Maslow (1968): life/survival, safety/security, belonging/affection, respect/self-respect, and self-actual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фиксана комуникација са схизофреним пацијентом је посебно важна зато што се они тако лако преплаве стимулусима из спољашње средин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обра комуникација може значајно допринети да пацијент и његова породица постану успешни у свакодневним активностим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обра комуникација укључуј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Знати КАДА комуницира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Знати О ЧЕМУ комуницира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Знати КАКО комуницира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 дискутовати нешто важно са овим пацијентима када сте/су љути или узнемир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ада је тешко јасно размишљати, тешко је добро слушати и фокусирати се на конструктивно решењ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во се треба смирити, па разговара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оцес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азмен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нформациј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еко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оговореног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стем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знакова</a:t>
            </a:r>
            <a:r>
              <a:rPr b="1" lang="sr-Latn-RS" sz="2600" spc="-1" strike="noStrike">
                <a:solidFill>
                  <a:srgbClr val="a34b73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- </a:t>
            </a:r>
            <a:r>
              <a:rPr b="1" lang="en-US" sz="2600" spc="-1" strike="noStrike">
                <a:solidFill>
                  <a:srgbClr val="a34b73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главн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именз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ор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љ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једно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ор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реирај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sr-RS" sz="2600" spc="-1" strike="noStrike">
                <a:solidFill>
                  <a:srgbClr val="a34b73"/>
                </a:solidFill>
                <a:latin typeface="Trebuchet MS"/>
              </a:rPr>
              <a:t>пору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шаљу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а неким циљем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абрати ЈЕДНУ важну ствари из мноштва оних које стоје пред пацијентом и породиц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 ex., say, "John, please stop playing your radio so loudly after 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.m." Don't say, "John, you're too noisy at night."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а вербалном нивоу, нека сва комуникација буде једноставна, кратка, специфичн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верблана комуникација подразумева тон гласа, положај тела, контакт очима, израз лица и физичка удаљеност између особа у комуникациј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13f9a"/>
                </a:solidFill>
                <a:latin typeface="Trebuchet MS"/>
              </a:rPr>
              <a:t>Невербaлана порука има већу специфичну тежину од вербалн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аријој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ас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н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ним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ели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 је бољ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позна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скрени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ељи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јој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могне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бегавати стереотипе (стари људи су болесни, ограничених способности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сензорне способности (слух, вид) и прилагодити с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психосоцијалне потребе- разумети њихов оквир, рањивост, страхов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4246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способност суочавања са проблемима (из разговора сазнати како су се носили с тешкоћам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емоционално стањ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ценити потребу за помоћи (не подстицати зависност од других уколико није нужн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новити неколико пута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им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болесника (ради усмеравања пажње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ористити кратке речени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давати упутства једно по јед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омуницирајти и додир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дустаните од захтева ако препознате фрустрацију, агреси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и понављању исте приче усмерити пажњу особе на циљ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звол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ругој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луша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љив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уч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им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нимај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руг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људ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уд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резн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ритикам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жљив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казу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хтев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зна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о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решк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Хвал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редн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хвал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Покушајте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да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замислите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себе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у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улози</a:t>
            </a:r>
            <a:r>
              <a:rPr b="1" lang="sr-Latn-C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друго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збегавај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вађу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тивречит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ажите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бро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сположењ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 чула, нарочито чула слуха и вида, слабе старење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зације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ор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агал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и, слушни апарати и сличн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ји се могу прилагодити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ост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г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 бољ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јо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а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бегaвати врло бучне звуке и изненадне покрет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век иднетификујете себе кад се приближавате особ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ците своје намере пре него што почнете разгово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ко је могуће, охрабрите особу слабијег вида да носи наочар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ка наочари буду чисте и диоптрија проверен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ближ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ране лиц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рат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ице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иц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лов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цијен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ено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ж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одирнит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пори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асниј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ово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ижим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глас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вербалн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муникацију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пиш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еш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реб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соб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лушн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парат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храб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љ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рис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авез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верит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л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атери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парат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справ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ешкоће у налажењу праве реч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нављање уобичајених израза/ре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потреба нових речи да би се описали уобичајене и терми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Лако губљење тока мис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ешкоће у одржавању логичности у излагањ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е ређе комуницирање, све мање прич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е веће ослањање на гестикулацију радије него на гово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a34b73"/>
                </a:solidFill>
                <a:latin typeface="Trebuchet MS"/>
              </a:rPr>
              <a:t>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 се оствару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a34b73"/>
                </a:solidFill>
                <a:latin typeface="Trebuchet MS"/>
              </a:rPr>
              <a:t>говором и писм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ff00"/>
                </a:solidFill>
                <a:latin typeface="Trebuchet MS"/>
              </a:rPr>
              <a:t>Невербална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е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ствару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ff00"/>
                </a:solidFill>
                <a:latin typeface="Trebuchet MS"/>
              </a:rPr>
              <a:t>невербалним</a:t>
            </a:r>
            <a:r>
              <a:rPr b="0" lang="en-US" sz="2600" spc="-1" strike="noStrike">
                <a:solidFill>
                  <a:srgbClr val="00ff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ff00"/>
                </a:solidFill>
                <a:latin typeface="Trebuchet MS"/>
              </a:rPr>
              <a:t>знаковима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Основн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комуникацијски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ала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дск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sr-RS" sz="2600" spc="-1" strike="noStrike">
                <a:solidFill>
                  <a:srgbClr val="ffff00"/>
                </a:solidFill>
                <a:latin typeface="Trebuchet MS"/>
              </a:rPr>
              <a:t>језик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ундамнтал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в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људс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рел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Токо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четн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фаз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блем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зиком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а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ешко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ати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онверзациј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учић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нађ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аву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о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требат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иш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времен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азмис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м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рек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како би требало да одговор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ж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чак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писиват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жели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мес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имену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требн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„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н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вар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моја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с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умест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„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четкиц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уб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„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вакв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итуациј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фрустрирајућ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битно</a:t>
            </a:r>
            <a:r>
              <a:rPr b="0" lang="sr-Latn-R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оказати довољн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стрпљењ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заборављања догађај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лиск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шл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смањена способност концентрациј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успореног одговор на стимулусе из околин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проблеми са слухом и вид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 немогућност читања или разумевања уопш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7419960" cy="1389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тешкоћ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онађ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аву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бог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чега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њихов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овор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разумљи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тешкоћа да организује речи или да логички размишљ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е чешће ослањање на невербалну гестикулаци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лели не жели никоме да отежа ситуацију, већ је отежана комуникација резултат боле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алност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лелог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еома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азликуј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тварне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алности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лели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лзхеимерове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олести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иви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војој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сти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кажите да слушате и разумете шта оболели покушава да вам каж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Фокусирајте се на осећања не на чињени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агласите важност за оно што оболели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мож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да урад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ипремит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собу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а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но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ћ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ледеће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огоди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удите реални; будите стрпљив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е расправљајте се, не критикујте, немојте исправљати оболело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држите смисао за хумор и запамтите да га има и особ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олела од Alzheimerove боле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Уколико понашање не може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нашкод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н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болелом ни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сталим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опустите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се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спонатано одвиј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но што ви кажете и оно што оболели у том тренутку чује најчешће су две различите ствар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Третирајте оболелог са поштовањ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Користите једноставне речи, разумљив језик, кратке речени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комуницирати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као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с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малим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детет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односити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с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прем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пацијенту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као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д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ј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ствар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,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а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не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људско</a:t>
            </a:r>
            <a:r>
              <a:rPr b="1" lang="it-IT" sz="26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бић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Ословљавајте особу именом и комуницирајте тек када се уверите да имате њихову пажњ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јте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времена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да</a:t>
            </a: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реагуј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Не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упадајте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реч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Ако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„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нестан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ч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искретно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нуд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шењ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зраз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ч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итањ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нструкциј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формулиш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зитивно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мисл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атите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ихов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евербалн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омуникацију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арочито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мимик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ратк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јасн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м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објаснит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вак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оступак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оцедуру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ег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што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приступи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реализациј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Утврдите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оба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дана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ада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су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комуникацијуски</a:t>
            </a:r>
            <a:r>
              <a:rPr b="1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rebuchet MS"/>
              </a:rPr>
              <a:t>најспособниј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Будите</a:t>
            </a:r>
            <a:r>
              <a:rPr b="1" lang="en-US" sz="2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1" lang="sr-RS" sz="2400" spc="-1" strike="noStrike">
                <a:solidFill>
                  <a:srgbClr val="b13f9a"/>
                </a:solidFill>
                <a:latin typeface="Trebuchet MS"/>
              </a:rPr>
              <a:t>емпатичн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 су показала да је код сваке комуникације само </a:t>
            </a:r>
            <a:r>
              <a:rPr b="1" lang="en-US" sz="2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7% вербалн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, 38% тон и боја гласа, а </a:t>
            </a:r>
            <a:r>
              <a:rPr b="1" lang="pl-PL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5%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т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евербалн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мер, за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у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zheimеrovе</a:t>
            </a:r>
            <a:r>
              <a:rPr b="0" lang="pl-P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„неизречен језик“ тела као и тон гласа постају много важнији него изговарање самих реч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Шта је сврха комуницирања? Слушати и бити саслушан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Често не слушамо пажљиво оно што нам се говори и не разјаснимо увек значење оног што чујем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место тога, убацујемо своје интерпретације и своје схавтање оног што нам је речено, што све може бити врло различито од интенције нашег саговорника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узда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ктивно слушањ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ез просуђивањ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важавање разлика у систему вред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Без претпостав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утентичнос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‘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jor mental illness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’’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ајчешћ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дразумевам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schizo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phreniju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раноди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руг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неорганск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оз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фектив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ћа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с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биполар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фектив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нксиозн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анич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псесив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пулзив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агорафобиј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)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сихотичним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ремећајим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сто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значајн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ометања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омуникациј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дезорганизован</a:t>
            </a: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RS" sz="2600" spc="-1" strike="noStrike">
                <a:solidFill>
                  <a:srgbClr val="000000"/>
                </a:solidFill>
                <a:latin typeface="Trebuchet MS"/>
              </a:rPr>
              <a:t>говор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дезорганизовано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понашање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ил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катато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феномени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х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луцин</a:t>
            </a:r>
            <a:r>
              <a:rPr b="0" lang="sr-Latn-R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RS" sz="2600" spc="-1" strike="noStrike">
                <a:solidFill>
                  <a:srgbClr val="000000"/>
                </a:solidFill>
                <a:latin typeface="Trebuchet MS"/>
              </a:rPr>
              <a:t>ције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ема савременим смерницама, сваки лекар требало да се оспособи током школовања да дијагностикује, лечи, али и разуме потребе пацијената који болују од менталних пормећаја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дукација студената вештини комуницирања са особама које болују од менталних пормећаја, значајно ће допринети квалитету третмана ове вулнерабилне популациј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Циљ едукације за бољу комуникацију- повећање знања о овим болестима, о савремним класификационим системима, клинички веродостојан опис психијатријских поремећаја као и реалистична терапијска очекивањ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чење вештини комуницирања са оболелим од менталнеог поремећаја је у својој суштини исто као и у интерној медицини, на пример. </a:t>
            </a:r>
            <a:r>
              <a:rPr b="0" i="1" lang="en-US" sz="2600" spc="-1" strike="noStrike">
                <a:solidFill>
                  <a:srgbClr val="b13f9a"/>
                </a:solidFill>
                <a:latin typeface="Trebuchet MS"/>
              </a:rPr>
              <a:t>Али, практично, то је мало другачиј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DF</dc:creator>
  <dc:description/>
  <dc:language>en-US</dc:language>
  <cp:lastModifiedBy>Milanče Sin</cp:lastModifiedBy>
  <dcterms:modified xsi:type="dcterms:W3CDTF">2023-02-04T20:10:35Z</dcterms:modified>
  <cp:revision>19</cp:revision>
  <dc:subject/>
  <dc:title>ВЕШТИНА КОМУНИКАЦИЈЕ СА ОСОБАМА СА МЕНТАЛНИМ ПОРЕМЕЋАЈИМА. КОМУНИКАЦИЈА СА ГЕРИЈАТРИЈСКОМ ПОПУЛАЦИЈОМ </dc:title>
</cp:coreProperties>
</file>